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C3D-5B42-4D71-B409-3DEA5C14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BCC-1ED0-40BF-9F35-6793599C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CCB-348F-48C8-8D50-1FD16C12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DC5-8B02-4047-BEB7-6B280471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DD1A-C9E1-416A-B316-BF723C4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4BB-9238-4A1C-A6EF-1FD7182E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4F40-48FF-49C9-9143-D8189645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D76F-E381-4505-ACD2-9D7D3328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E628-52CC-4666-B66E-2FC899A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061A-3621-44F6-AE51-257CDD3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477-ED78-40EB-B7AA-29E8255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0D0-5033-48A3-8674-10828AD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CD7-092B-4557-A088-F80943C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E3CC-81CB-44E8-9646-C123F4C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0076-F1FA-4407-9B7A-830E3B6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635-077D-4E3C-8B63-309BB6D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1C9-A92D-4F7F-A509-0A585DA2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5B9-A116-48EF-A517-08B2547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B98-8B3A-4EEC-9724-821009F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B09-9BA0-441D-A636-B0B22594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FFC-606C-4F9F-A4D8-7C3AC3E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670-A4E0-4743-BD38-D97BC0C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D7B-D00B-46B3-8427-A88A717B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890-8CC6-40B1-A820-AB5A573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AFDA-8009-486A-A31F-F2925AC100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A88-C6B1-420D-9485-B6D0C11BA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 311 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(in degrees Kelvin) is directly proportional to the kinetic energy of the particles of the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theory states gases are made of particles with kinetic en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ion curve shows that the particles tend towards an average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is directly related to that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inetic Energy: the energy an object has because of its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Kinetic Theory: all matter consists of tiny particles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4038480" cy="269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62120" y="609480"/>
            <a:ext cx="7467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Kinetic Energy &amp; The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403884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Kinetic energy of liquids allows particles to flow pas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orm to shape of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16520" y="2133720"/>
            <a:ext cx="2860920" cy="430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362320" y="533520"/>
            <a:ext cx="3504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Liquid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rticles of liquids are attra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les of gases are not = spread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e picture pg 3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457200"/>
            <a:ext cx="7162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Particle Attra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2592360"/>
            <a:ext cx="396216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ecause of the attraction, the volumes of liquids barely change- even when pressu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038840" cy="320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609480" y="609480"/>
            <a:ext cx="8077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Condensed State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5715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Kinetic Theory – all objects have energy due to their mo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n a liquid converts to a gas/vapor, it is called vap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evaporation, only those molecules which have a certain minimum kinetic energy can escape from the surface of the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eating a liquid increases the average kinetic energy of the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ttractive forces keep a liquid in tha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vaporation cools the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eat adds energy, enabling particles to overcome the attractive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apor In a Closed Sp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is reached when the number of particles vaporizing and the number of particles condensing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por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 of gas force exerted above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apor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2895480" cy="13716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Liqu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5029200"/>
            <a:ext cx="2895480" cy="1371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Vapor (Ga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236232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24080" y="3657600"/>
            <a:ext cx="2286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724280"/>
            <a:ext cx="2666880" cy="1057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362320"/>
            <a:ext cx="2666880" cy="1057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6767ff"/>
                </a:solidFill>
                <a:latin typeface="Rage Italic"/>
              </a:rPr>
              <a:t>Kinetic Theo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All mater consists of tiny particles that are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Specifically, the particles in gas are considered to be small hard spheres with an insignifican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The particles in gas are spread out leaving a lot of ope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9528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52578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357E-008 L 0 0.11121 E">
                                      <p:cBhvr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7062E-006 L 0.1125 -0.06117 E">
                                      <p:cBhvr>
                                        <p:cTn id="4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1196E-006 L -0.12917 -0.06117 E">
                                      <p:cBhvr>
                                        <p:cTn id="4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ometer- device to measure vapor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Boiling Poi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at which the vapor pressure of the liquid is equal to the outside ai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 particles have enough kinetic energy to form gas and evapo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 of States of Mat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ve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ses have no attraction to each 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have some level of attraction, but not as strong as that of sol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lids have the strongest attraction betwee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 of States of Matter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es take up little space in a closed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ause they have no attraction to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quids have definite siz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ause the attraction is great enough to keep them toge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th gases and liquids are fluid because their relative lack of attraction allows their molecules to move free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lids are in “fixed” posi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can be found in crystalline or non-crystalline 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 of crystal from non-crys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s have a internal structure, meaning that the atoms are bonded in a specific way, whereas in non-crystals such as glass, there is n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li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n which a solid changes to a gas or vapor without passing through the liquid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86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es Sublimation Happ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imation happens because solids and liquids have vapo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imation occurs in solids with vapor pressures that exceed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iple 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on a phase diagram that represents the only set of conditions at which all three phases exist in equilibrium wit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ase diagram gives the conditions of temperature and pressure at which a substance exists as solid, liquid an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95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 is also known as ioniz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trip electrons from atoms and they float around freely i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395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6767ff"/>
                </a:solidFill>
                <a:latin typeface="Rage Italic"/>
              </a:rPr>
              <a:t>Gas Particl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The motion of particles in a gas is rapid, constant, and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As a result gases will always spread out and fill the area they are contain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The particles travel in a straight line but change course after collisions with other gas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During collisions kinetic energy is transferred from one particle to the other without loss as the collisions are characterized a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7050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inetic Theory of Ga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as is composed of a large number of molecules that are very small relative to the distance betwee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cules of a gas are in constant, random motion and frequently collide with each other and with their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24560" y="1752480"/>
            <a:ext cx="36194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as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pressure is the result of simultaneous collisions of rapidly moving particles in a gas with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mpty space with no particles (and thus no pressure) is called a vacu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388620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ic pressure results from the collision of atoms and molecules in the air with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decreases as altitude increases because the density of the atmosphere decreases with elev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weather also affect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4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unit for pressure is the pascal (Pa). Other units include mm Hg and a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tmospheric pressure is about 100,000Pa (100k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ic pressure is measured by a bar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43560" y="1066680"/>
            <a:ext cx="2571840" cy="389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43200" y="54864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 of the mercury in the column depends on the amount of atmospheric pressure being exerted on the surface of the mercury in the reservo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441936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ter consists of tiny particles that are in constant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le has its own kinetic energy (read: spe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tribution Cur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energies of particles, when graphed, show that more particles are closer to the average kinetic energy with less particles near the extr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44:39Z</dcterms:created>
  <dc:creator>udsd</dc:creator>
  <dc:description/>
  <dc:language>en-US</dc:language>
  <cp:lastModifiedBy>udsd</cp:lastModifiedBy>
  <dcterms:modified xsi:type="dcterms:W3CDTF">2010-04-12T11:53:50Z</dcterms:modified>
  <cp:revision>1</cp:revision>
  <dc:subject/>
  <dc:title>Chapter 13-States of Matter</dc:title>
</cp:coreProperties>
</file>